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E867-24B6-46A0-874E-DDD8D1F24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1AB1-0CF3-4E9B-9A0E-B1702D917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7B52-63FA-48CE-863E-6F8587D1B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E83F-12B6-4280-A1EF-3B0EE80FB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148B-AE91-4D38-9395-A96B2B1204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5225-D682-4CE5-818F-96588D5A0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3428-5E2E-4992-BC23-730E06B79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D557-3FD1-4036-B600-2C817D3D6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B0D0-0D23-4243-8E6C-D9F09A2AF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F29B-10A7-42C7-99BB-ACD0FDCB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89E2-0999-4AD1-84BE-E7D6286F7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0EED-C35D-4510-AA13-5CE0D0192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848FF7DE-44F4-40F8-A1C9-E805E1200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911B2603-F18B-4562-8BD2-A68CD67B2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rative and superlative of adjectives and adve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3"/>
          <p:cNvSpPr/>
          <p:nvPr/>
        </p:nvSpPr>
        <p:spPr>
          <a:xfrm>
            <a:off x="4015080" y="4006800"/>
            <a:ext cx="4836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ce concentré de tout ce que l’être hu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vait créer d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formidable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5" descr=""/>
          <p:cNvPicPr/>
          <p:nvPr/>
        </p:nvPicPr>
        <p:blipFill>
          <a:blip r:embed="rId1"/>
          <a:stretch/>
        </p:blipFill>
        <p:spPr>
          <a:xfrm>
            <a:off x="533520" y="2093760"/>
            <a:ext cx="335916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4510DC26-BAD7-487E-B5BB-A9A7E6EEA4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dverbs are invariable, the definite article used in the superlative is alw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8200" y="2692440"/>
          <a:ext cx="8377200" cy="2870280"/>
        </p:xfrm>
        <a:graphic>
          <a:graphicData uri="http://schemas.openxmlformats.org/drawingml/2006/table">
            <a:tbl>
              <a:tblPr/>
              <a:tblGrid>
                <a:gridCol w="4186080"/>
                <a:gridCol w="419112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Laure et moi qui travaillons </a:t>
                      </a:r>
                      <a:br>
                        <a:rPr sz="2100"/>
                      </a:b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sérieuseme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ure and I work the most serious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mon frère qui condu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moins patiemme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 brother drives the least patient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5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EEFCFB44-F2EC-49B0-B7E3-BC5D35B4C0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verb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rregular comparative and superlative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09480" y="2590920"/>
            <a:ext cx="7925040" cy="228600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09480" y="3505320"/>
            <a:ext cx="7925040" cy="152388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09480" y="3095640"/>
            <a:ext cx="792504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666880"/>
          <a:ext cx="7543800" cy="2362320"/>
        </p:xfrm>
        <a:graphic>
          <a:graphicData uri="http://schemas.openxmlformats.org/drawingml/2006/table">
            <a:tbl>
              <a:tblPr/>
              <a:tblGrid>
                <a:gridCol w="1828800"/>
                <a:gridCol w="2819520"/>
                <a:gridCol w="28954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212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ux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mal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dom used)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mieux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2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lus mal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i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dom used)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38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5270400"/>
          <a:ext cx="8382240" cy="1130400"/>
        </p:xfrm>
        <a:graphic>
          <a:graphicData uri="http://schemas.openxmlformats.org/drawingml/2006/table">
            <a:tbl>
              <a:tblPr/>
              <a:tblGrid>
                <a:gridCol w="4157640"/>
                <a:gridCol w="422460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t outil-ci marc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ux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ui-là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tool works better than that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cet outil-là qui marc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ma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tool works the wors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02E72CD9-5EBC-4428-A298-F7A674DD66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23960" y="1571760"/>
          <a:ext cx="7696080" cy="322884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442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7846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careful not to confuse the adjectiv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v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with the adverb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l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anson est bonne/mauvaise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ng is good/ba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chante bien/mal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ings well/bad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25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D1F6C4F3-8E25-4859-A2FD-862AD458AC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232720" y="4159080"/>
            <a:ext cx="4629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C’est Léonie qui jou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le mieux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u viol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DAC3_p237"/>
          <p:cNvPicPr/>
          <p:nvPr/>
        </p:nvPicPr>
        <p:blipFill>
          <a:blip r:embed="rId1"/>
          <a:stretch/>
        </p:blipFill>
        <p:spPr>
          <a:xfrm>
            <a:off x="2522520" y="1709640"/>
            <a:ext cx="404820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61B5EA07-04FF-44D8-A1EE-A27C73FCD6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716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comparisons between people or things, pl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i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fore the adjective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rative and superlative of adjectives and adve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557520"/>
          <a:ext cx="8350200" cy="2427480"/>
        </p:xfrm>
        <a:graphic>
          <a:graphicData uri="http://schemas.openxmlformats.org/drawingml/2006/table">
            <a:tbl>
              <a:tblPr/>
              <a:tblGrid>
                <a:gridCol w="4030560"/>
                <a:gridCol w="4319640"/>
              </a:tblGrid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tte invention 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novan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précéden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invention is more innovative than the previous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planètes Uranus et Neptune so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mineus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étoil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lanets Uranus and Neptune are less bright than sta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moteur de recherche 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ac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ui-là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earch engine is as efficient as that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79264C69-C970-4F59-8E70-AE632B5737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23960" y="1828800"/>
          <a:ext cx="7696080" cy="178128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135576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tha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om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a vowel soun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oline est plus jeune qu’Ousma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comparative and superlative of adjectives and ad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A2DFFF1B-E94F-42F3-B6B9-F0A7E75EE0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superlative by using the appropriate definite article along with the comparative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19120" y="2692440"/>
          <a:ext cx="8244000" cy="2870280"/>
        </p:xfrm>
        <a:graphic>
          <a:graphicData uri="http://schemas.openxmlformats.org/drawingml/2006/table">
            <a:tbl>
              <a:tblPr/>
              <a:tblGrid>
                <a:gridCol w="4205160"/>
                <a:gridCol w="403884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teu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rapi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 faculté de médeci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is the fastest comp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the medical schoo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elle qui a propos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éori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plus révolutionnai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proposed the mo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volutionary theo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Rectangle 18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332104BC-9070-4B8E-88A0-91C3C54F08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 superlative mea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383560" y="5079960"/>
            <a:ext cx="4389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Voici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la meilleu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invention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du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ond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DAC3_p236b"/>
          <p:cNvPicPr/>
          <p:nvPr/>
        </p:nvPicPr>
        <p:blipFill>
          <a:blip r:embed="rId1"/>
          <a:stretch/>
        </p:blipFill>
        <p:spPr>
          <a:xfrm>
            <a:off x="2519280" y="2286000"/>
            <a:ext cx="4105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9BA3A8D6-5E2F-429D-ADBE-3A07C07B5D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superlative of an adjective that precedes the noun it modifies, the superlative 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ecedes the noun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52480" y="2819520"/>
          <a:ext cx="8001000" cy="2869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86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travaillez su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pet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teur de la fa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’re working on the small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uter on camp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-tu visit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plus beaux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uments de la ville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visit the most beautiful monuments in town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14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E0EA50D7-5817-49C4-925D-E3EE62469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jectiv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uva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rregular comparative and superlative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85800" y="2514600"/>
            <a:ext cx="7924680" cy="228600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685800" y="3429000"/>
            <a:ext cx="7924680" cy="2057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685800" y="3019320"/>
            <a:ext cx="792468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14400" y="2590920"/>
          <a:ext cx="7848720" cy="2895480"/>
        </p:xfrm>
        <a:graphic>
          <a:graphicData uri="http://schemas.openxmlformats.org/drawingml/2006/table">
            <a:tbl>
              <a:tblPr/>
              <a:tblGrid>
                <a:gridCol w="2057400"/>
                <a:gridCol w="2590920"/>
                <a:gridCol w="32004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ec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148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(n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uvais(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lleur(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e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mauvais(e)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/la/les meilleur(e)(s) 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/la/les pire(s)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/la/les plus mauvais(e)(s)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50"/>
          <p:cNvSpPr/>
          <p:nvPr/>
        </p:nvSpPr>
        <p:spPr>
          <a:xfrm>
            <a:off x="1219320" y="60948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464F861B-8E83-412F-A641-E5F6DEF57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930320"/>
          <a:ext cx="8244000" cy="2870280"/>
        </p:xfrm>
        <a:graphic>
          <a:graphicData uri="http://schemas.openxmlformats.org/drawingml/2006/table">
            <a:tbl>
              <a:tblPr/>
              <a:tblGrid>
                <a:gridCol w="3962520"/>
                <a:gridCol w="428148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amel a acheté un télescope 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illeu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jamel bought a better quality telescop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otte a écr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lus mauv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urs de la class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lotte wrote the worst speech in the clas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15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-</a:t>
            </a:r>
            <a:fld id="{81F67382-3591-4F01-90D2-EE5D30D2AE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Ad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aring adverbs, pl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adverb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8200" y="3225960"/>
          <a:ext cx="8001000" cy="2869920"/>
        </p:xfrm>
        <a:graphic>
          <a:graphicData uri="http://schemas.openxmlformats.org/drawingml/2006/table">
            <a:tbl>
              <a:tblPr/>
              <a:tblGrid>
                <a:gridCol w="3719520"/>
                <a:gridCol w="4281480"/>
              </a:tblGrid>
              <a:tr h="286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e surfe sur le web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em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mili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e surfs the Web faster than Émili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moteur de recherche va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i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aut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search engine works less quickly than the other o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4"/>
          <p:cNvSpPr/>
          <p:nvPr/>
        </p:nvSpPr>
        <p:spPr>
          <a:xfrm>
            <a:off x="1219320" y="6094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comparative and superlative of adjectives and adverb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2-09T15:23:39Z</dcterms:modified>
  <cp:revision>191</cp:revision>
  <dc:subject>D'accord! 3 • Leçon 7: Les sciences et la technologie</dc:subject>
  <dc:title>7.1 The comparative and superlative of adjectives and adverbs</dc:title>
</cp:coreProperties>
</file>